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ECF-C03F-49C0-A0FA-70B49004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861-CB97-4A09-A7F7-C45104DA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EFC-0998-4C22-B3BD-56460F9C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FCE-B472-436C-BF7C-6D574A65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DDC-372B-415E-84F7-CC9C4DDD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BDF-8E4F-45F0-9791-AF5D88FD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4F3-EF72-4044-844D-1FD8AB76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544-CB5E-4C05-BBA8-428574B0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CE1-20A7-4C3E-8DA4-FF123B7A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7A7-B85A-4BB4-B076-5B40B941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4AB-07A3-4966-BA9D-71C76E47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CC8-A089-47D7-A807-B19470B5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EA09-B079-4E96-83ED-409CEDDE6D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1905120"/>
            <a:ext cx="1828800" cy="30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MUN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2361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lteplice il sistema per conoscere: scuola, editoria, cinema e spettaco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762120"/>
            <a:ext cx="205740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i gestisce i mezzi di comunicazione può influenzare pensiero e comportamento, soprattutto di adolescent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514240" y="12949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3048120"/>
            <a:ext cx="2209680" cy="52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cesso di trasmissione di informazioni…..conosc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657600"/>
            <a:ext cx="2361960" cy="2345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zion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rasmettere-acquisire conoscenz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insieme di dati non elaborati (cronaca), o organizzati (matematica, computer, telefono…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divulgazione di informazioni precisa ed ogget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3809880"/>
            <a:ext cx="1371600" cy="127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oscenz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utto ciò che si conosce su qualsiasi arg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5105520"/>
            <a:ext cx="152388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it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 essere difesi da messaggi aggressivi, soprattutto gli adolesc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410080" y="12952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lefante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100160" cy="1208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457200"/>
            <a:ext cx="2590920" cy="1447920"/>
          </a:xfrm>
          <a:prstGeom prst="cloudCallout">
            <a:avLst>
              <a:gd name="adj1" fmla="val -61703"/>
              <a:gd name="adj2" fmla="val 7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unicazione e  rischi per i minori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noopy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0200" y="304920"/>
            <a:ext cx="1752480" cy="1600200"/>
          </a:xfrm>
          <a:prstGeom prst="wedgeEllipseCallout">
            <a:avLst>
              <a:gd name="adj1" fmla="val -68388"/>
              <a:gd name="adj2" fmla="val 152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ipolazione messaggi, indurre a comportamenti imitat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omputuom" descr=""/>
          <p:cNvPicPr/>
          <p:nvPr/>
        </p:nvPicPr>
        <p:blipFill>
          <a:blip r:embed="rId3"/>
          <a:stretch/>
        </p:blipFill>
        <p:spPr>
          <a:xfrm>
            <a:off x="8153280" y="3733920"/>
            <a:ext cx="754200" cy="1131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248520" y="3505320"/>
            <a:ext cx="1523880" cy="990360"/>
          </a:xfrm>
          <a:prstGeom prst="wedgeRoundRectCallout">
            <a:avLst>
              <a:gd name="adj1" fmla="val 75939"/>
              <a:gd name="adj2" fmla="val -448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ormazione”del messagg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disin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ettore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1295640" cy="1230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3124080"/>
            <a:ext cx="1447920" cy="1219320"/>
          </a:xfrm>
          <a:prstGeom prst="cloudCallout">
            <a:avLst>
              <a:gd name="adj1" fmla="val -73462"/>
              <a:gd name="adj2" fmla="val 15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fficoltà nell’uso di linguaggi inadeguati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herlok" descr=""/>
          <p:cNvPicPr/>
          <p:nvPr/>
        </p:nvPicPr>
        <p:blipFill>
          <a:blip r:embed="rId5"/>
          <a:stretch/>
        </p:blipFill>
        <p:spPr>
          <a:xfrm>
            <a:off x="4419720" y="4724280"/>
            <a:ext cx="1536480" cy="187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14640" y="5064120"/>
            <a:ext cx="1371600" cy="990720"/>
          </a:xfrm>
          <a:prstGeom prst="borderCallout2">
            <a:avLst>
              <a:gd name="adj1" fmla="val 18750"/>
              <a:gd name="adj2" fmla="val -8333"/>
              <a:gd name="adj3" fmla="val 11537"/>
              <a:gd name="adj4" fmla="val 199537"/>
              <a:gd name="adj5" fmla="val -6250"/>
              <a:gd name="adj6" fmla="val 2267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 Istituzioni quali soluzioni offrono al problem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228600"/>
            <a:ext cx="251460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 SCUOLA deve “educare”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capire vari messaggi e usarli intelligentemen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”filtrare” comportamenti violenti trasmessi dai “mass media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rivalutare la lettura, mezzo insostituibile per la rivalutazione dei sentimen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mmagine%20scanner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141640" cy="147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19520" y="5335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E02886_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187344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00800" y="2666880"/>
            <a:ext cx="2438280" cy="20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 FAMIGLIA de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essere presente con l’esempi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conoscere i “gusti” dell’informazione dei figl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curare il loro diritto ad una corretta informazion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seguire il lavoro scolasti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educare alla toller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D06878_" descr=""/>
          <p:cNvPicPr/>
          <p:nvPr/>
        </p:nvPicPr>
        <p:blipFill>
          <a:blip r:embed="rId3"/>
          <a:stretch/>
        </p:blipFill>
        <p:spPr>
          <a:xfrm>
            <a:off x="4572000" y="5181480"/>
            <a:ext cx="2535120" cy="1258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419112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124080"/>
            <a:ext cx="2057400" cy="32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 ISTITUZIO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diritto del minore a informazione adeguata (art: 17 Convenzione O.N.U.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diritto ad avere strumenti per leggere i messaggi (art. 13 Convenzion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educazione finalizzata al rispetto dei valori  universali (pace, solidarietà…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intervenire con leggi per creare occasioni e strumenti. di informazione (Vedi Contratto R.A.I. firmato con Ministero Comunicazion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33376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733920"/>
            <a:ext cx="18288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8:12:09Z</dcterms:created>
  <dc:creator>Packard Bell NEC, Inc.</dc:creator>
  <dc:description/>
  <dc:language>en-US</dc:language>
  <cp:lastModifiedBy>Gioia</cp:lastModifiedBy>
  <dcterms:modified xsi:type="dcterms:W3CDTF">2003-06-08T09:28:49Z</dcterms:modified>
  <cp:revision>9</cp:revision>
  <dc:subject/>
  <dc:title>Presentazione di PowerPoint</dc:title>
</cp:coreProperties>
</file>